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119-4514-4B3C-8417-A2D7A13E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23B-B00A-4709-946B-E323488A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BC87-0973-42C0-AB26-2D3AAAEC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0356-9B12-416B-8B55-7389FEA0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43B-7E82-47EF-9113-72E33F2E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285-E24C-4B14-986A-D1FD5C3D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8BB-13C9-4B1E-88D4-042F3468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BD4-8B67-4CF2-9FAB-61E33C9C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A4C1-0E88-4745-A182-F995C0AA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F45-E138-4EA7-84B6-13CAD855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B730-9620-4212-9175-3FEB27DE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0A1-4C4A-493D-8BBA-0AD6E875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22EC-1F57-4075-BD93-8C52213686F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A6A0-1DCE-4E97-BDDA-9AA188D42BD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流程图: 文档 4"/>
          <p:cNvSpPr/>
          <p:nvPr/>
        </p:nvSpPr>
        <p:spPr>
          <a:xfrm>
            <a:off x="0" y="0"/>
            <a:ext cx="9144000" cy="1500120"/>
          </a:xfrm>
          <a:prstGeom prst="flowChartDocumen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时间控制的自组织模式形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0"/>
          <p:cNvSpPr/>
          <p:nvPr/>
        </p:nvSpPr>
        <p:spPr>
          <a:xfrm>
            <a:off x="1428840" y="1928880"/>
            <a:ext cx="3429000" cy="8571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6"/>
          <p:cNvSpPr/>
          <p:nvPr/>
        </p:nvSpPr>
        <p:spPr>
          <a:xfrm>
            <a:off x="1428840" y="2857680"/>
            <a:ext cx="3429000" cy="85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新的机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8"/>
          <p:cNvSpPr/>
          <p:nvPr/>
        </p:nvSpPr>
        <p:spPr>
          <a:xfrm>
            <a:off x="1428840" y="3786120"/>
            <a:ext cx="3429000" cy="85716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实验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9"/>
          <p:cNvSpPr/>
          <p:nvPr/>
        </p:nvSpPr>
        <p:spPr>
          <a:xfrm>
            <a:off x="1428840" y="4714920"/>
            <a:ext cx="3429000" cy="8571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实验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0"/>
          <p:cNvSpPr/>
          <p:nvPr/>
        </p:nvSpPr>
        <p:spPr>
          <a:xfrm>
            <a:off x="1428840" y="5643720"/>
            <a:ext cx="3429000" cy="857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讨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8"/>
          <p:cNvSpPr/>
          <p:nvPr/>
        </p:nvSpPr>
        <p:spPr>
          <a:xfrm>
            <a:off x="5643720" y="1928880"/>
            <a:ext cx="2919240" cy="1357200"/>
          </a:xfrm>
          <a:prstGeom prst="roundRect">
            <a:avLst>
              <a:gd name="adj" fmla="val 16667"/>
            </a:avLst>
          </a:prstGeom>
          <a:noFill/>
          <a:ln w="60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报告人：洪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"/>
                            </p:stCondLst>
                            <p:childTnLst>
                              <p:par>
                                <p:cTn id="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146 -3.33333E-006 L 5.55112E-017 -3.33333E-006 E">
                                      <p:cBhvr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L 0.11146 3.33333E-006 E">
                                      <p:cBhvr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.00209 L 0.19566 0.00209 E">
                                      <p:cBhvr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 L 0.25868 0 E">
                                      <p:cBhvr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5DCE-E553-4248-B4B2-DA14A0207CA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QQ截图20131124154413"/>
          <p:cNvPicPr/>
          <p:nvPr/>
        </p:nvPicPr>
        <p:blipFill>
          <a:blip r:embed="rId1"/>
          <a:stretch/>
        </p:blipFill>
        <p:spPr>
          <a:xfrm>
            <a:off x="1276200" y="1417680"/>
            <a:ext cx="6591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59CD-2D89-4722-B9A9-803544C8C7F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决定环大小的因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积累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HL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的时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增加外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改变加样液滴的大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QQ截图20131124195541"/>
          <p:cNvPicPr/>
          <p:nvPr/>
        </p:nvPicPr>
        <p:blipFill>
          <a:blip r:embed="rId1"/>
          <a:stretch/>
        </p:blipFill>
        <p:spPr>
          <a:xfrm>
            <a:off x="457200" y="2836800"/>
            <a:ext cx="77709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DA6B-2608-45A3-9B08-5591C1A6F04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QQ截图20131124200004"/>
          <p:cNvPicPr/>
          <p:nvPr/>
        </p:nvPicPr>
        <p:blipFill>
          <a:blip r:embed="rId1"/>
          <a:stretch/>
        </p:blipFill>
        <p:spPr>
          <a:xfrm>
            <a:off x="687240" y="274680"/>
            <a:ext cx="74170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流程图: 文档 3"/>
          <p:cNvSpPr/>
          <p:nvPr/>
        </p:nvSpPr>
        <p:spPr>
          <a:xfrm>
            <a:off x="0" y="0"/>
            <a:ext cx="9144000" cy="1500120"/>
          </a:xfrm>
          <a:prstGeom prst="flowChartDocumen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讨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841320" y="2627280"/>
            <a:ext cx="8070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将实验和模型巧妙的结合在一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思路很清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流程图: 文档 3"/>
          <p:cNvSpPr/>
          <p:nvPr/>
        </p:nvSpPr>
        <p:spPr>
          <a:xfrm>
            <a:off x="0" y="0"/>
            <a:ext cx="9144000" cy="1500120"/>
          </a:xfrm>
          <a:prstGeom prst="flowChartDocumen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841320" y="2627280"/>
            <a:ext cx="807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c0504d"/>
                </a:solidFill>
                <a:latin typeface="Arial"/>
              </a:rPr>
              <a:t>Thank you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流程图: 文档 3"/>
          <p:cNvSpPr/>
          <p:nvPr/>
        </p:nvSpPr>
        <p:spPr>
          <a:xfrm>
            <a:off x="0" y="0"/>
            <a:ext cx="9144000" cy="1500120"/>
          </a:xfrm>
          <a:prstGeom prst="flowChartDocumen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背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temonitis_sp._14310"/>
          <p:cNvPicPr/>
          <p:nvPr/>
        </p:nvPicPr>
        <p:blipFill>
          <a:blip r:embed="rId1"/>
          <a:stretch/>
        </p:blipFill>
        <p:spPr>
          <a:xfrm>
            <a:off x="71280" y="3430440"/>
            <a:ext cx="2592720" cy="324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486388759756412897"/>
          <p:cNvPicPr/>
          <p:nvPr/>
        </p:nvPicPr>
        <p:blipFill>
          <a:blip r:embed="rId2"/>
          <a:stretch/>
        </p:blipFill>
        <p:spPr>
          <a:xfrm>
            <a:off x="2744640" y="3429000"/>
            <a:ext cx="3451320" cy="324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index"/>
          <p:cNvPicPr/>
          <p:nvPr/>
        </p:nvPicPr>
        <p:blipFill>
          <a:blip r:embed="rId3"/>
          <a:stretch/>
        </p:blipFill>
        <p:spPr>
          <a:xfrm>
            <a:off x="6400800" y="3429000"/>
            <a:ext cx="2590920" cy="3240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392040" y="1901880"/>
            <a:ext cx="767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组织模式：生物系统内的有序结构或这种有序结构的形成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流程图: 文档 3"/>
          <p:cNvSpPr/>
          <p:nvPr/>
        </p:nvSpPr>
        <p:spPr>
          <a:xfrm>
            <a:off x="0" y="0"/>
            <a:ext cx="9144000" cy="150012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机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C:\Users\Administrator\Desktop\背景图片\海浪\1.png"/>
          <p:cNvPicPr/>
          <p:nvPr/>
        </p:nvPicPr>
        <p:blipFill>
          <a:blip r:embed="rId1"/>
          <a:srcRect l="0" t="0" r="0" b="17053"/>
          <a:stretch/>
        </p:blipFill>
        <p:spPr>
          <a:xfrm>
            <a:off x="0" y="5815080"/>
            <a:ext cx="9144000" cy="1042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231840" y="1690560"/>
            <a:ext cx="55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灵机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生物体内的某种被称为“形态子” 的生物大分子与其它物质发生生物化学反应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时在其体内随机扩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31840" y="3773520"/>
            <a:ext cx="528012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法国国旗的模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rech flag mode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：胚胎细胞接受并对遗传信息做出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9"/>
          <p:cNvSpPr/>
          <p:nvPr/>
        </p:nvSpPr>
        <p:spPr>
          <a:xfrm>
            <a:off x="2639880" y="1690560"/>
            <a:ext cx="5214960" cy="32860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宋体"/>
              </a:rPr>
              <a:t>依赖于形态因子的浓度梯度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圆角矩形 10"/>
          <p:cNvSpPr/>
          <p:nvPr/>
        </p:nvSpPr>
        <p:spPr>
          <a:xfrm>
            <a:off x="282600" y="1500120"/>
            <a:ext cx="7764480" cy="17510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自组织模式的形成不需要形态因子的浓度梯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流程图: 文档 3"/>
          <p:cNvSpPr/>
          <p:nvPr/>
        </p:nvSpPr>
        <p:spPr>
          <a:xfrm>
            <a:off x="0" y="0"/>
            <a:ext cx="9144000" cy="150012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一种新的机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Administrator\Desktop\背景图片\海浪\1.png"/>
          <p:cNvPicPr/>
          <p:nvPr/>
        </p:nvPicPr>
        <p:blipFill>
          <a:blip r:embed="rId1"/>
          <a:srcRect l="0" t="0" r="0" b="17053"/>
          <a:stretch/>
        </p:blipFill>
        <p:spPr>
          <a:xfrm>
            <a:off x="0" y="5815080"/>
            <a:ext cx="914400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3CFD7[[Y(JAU)}ARV}C[A(F"/>
          <p:cNvPicPr/>
          <p:nvPr/>
        </p:nvPicPr>
        <p:blipFill>
          <a:blip r:embed="rId1"/>
          <a:stretch/>
        </p:blipFill>
        <p:spPr>
          <a:xfrm>
            <a:off x="660240" y="1641600"/>
            <a:ext cx="3346560" cy="5079960"/>
          </a:xfrm>
          <a:prstGeom prst="rect">
            <a:avLst/>
          </a:prstGeom>
          <a:ln w="0">
            <a:noFill/>
          </a:ln>
        </p:spPr>
      </p:pic>
      <p:sp>
        <p:nvSpPr>
          <p:cNvPr id="6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E70A-7B31-4156-B81D-8250D3F8199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6880" y="49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48040" y="1984320"/>
            <a:ext cx="403416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T7 RN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a mutant T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RNA 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lymeras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流程图: 文档 3"/>
          <p:cNvSpPr/>
          <p:nvPr/>
        </p:nvSpPr>
        <p:spPr>
          <a:xfrm>
            <a:off x="-46080" y="0"/>
            <a:ext cx="9140760" cy="150192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实验设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765C-6E05-4066-B098-6E975881C17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负向反馈回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004160" y="1418760"/>
            <a:ext cx="2301840" cy="36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Lys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T7 lysozy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Lux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Lux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T7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T7 RNAP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a mutant T7 RNA 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lymerase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63520" y="619200"/>
            <a:ext cx="6740640" cy="6030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3359160" y="39600"/>
            <a:ext cx="36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负反馈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3C60-1D1B-4853-BCF2-7057EDDE5DA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457200" y="1500120"/>
            <a:ext cx="7145280" cy="4481640"/>
          </a:xfrm>
          <a:prstGeom prst="rect">
            <a:avLst/>
          </a:prstGeom>
          <a:ln w="0">
            <a:noFill/>
          </a:ln>
        </p:spPr>
      </p:pic>
      <p:sp>
        <p:nvSpPr>
          <p:cNvPr id="74" name="流程图: 文档 3"/>
          <p:cNvSpPr/>
          <p:nvPr/>
        </p:nvSpPr>
        <p:spPr>
          <a:xfrm>
            <a:off x="0" y="0"/>
            <a:ext cx="9144000" cy="1500120"/>
          </a:xfrm>
          <a:prstGeom prst="flowChartDocumen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结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900400"/>
            <a:ext cx="7934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FP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环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Cherry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环早形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环的形成和菌落的扩张是精密结合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7823160" y="5546880"/>
            <a:ext cx="530280" cy="622080"/>
          </a:xfrm>
          <a:custGeom>
            <a:avLst/>
            <a:gdLst>
              <a:gd name="textAreaLeft" fmla="*/ 33120 w 530280"/>
              <a:gd name="textAreaRight" fmla="*/ 497160 w 530280"/>
              <a:gd name="textAreaTop" fmla="*/ 33120 h 622080"/>
              <a:gd name="textAreaBottom" fmla="*/ 588960 h 622080"/>
            </a:gdLst>
            <a:ahLst/>
            <a:rect l="textAreaLeft" t="textAreaTop" r="textAreaRight" b="textAreaBottom"/>
            <a:pathLst>
              <a:path w="21600" h="25337">
                <a:moveTo>
                  <a:pt x="0" y="0"/>
                </a:moveTo>
                <a:lnTo>
                  <a:pt x="21600" y="0"/>
                </a:lnTo>
                <a:lnTo>
                  <a:pt x="21600" y="25337"/>
                </a:lnTo>
                <a:lnTo>
                  <a:pt x="0" y="25337"/>
                </a:lnTo>
                <a:close/>
              </a:path>
              <a:path fill="lightenLess" w="21600" h="25337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337">
                <a:moveTo>
                  <a:pt x="21600" y="0"/>
                </a:moveTo>
                <a:lnTo>
                  <a:pt x="21600" y="25337"/>
                </a:lnTo>
                <a:lnTo>
                  <a:pt x="20250" y="23987"/>
                </a:lnTo>
                <a:lnTo>
                  <a:pt x="20250" y="1350"/>
                </a:lnTo>
                <a:close/>
              </a:path>
              <a:path fill="darkenLess" w="21600" h="25337">
                <a:moveTo>
                  <a:pt x="21600" y="25337"/>
                </a:moveTo>
                <a:lnTo>
                  <a:pt x="0" y="25337"/>
                </a:lnTo>
                <a:lnTo>
                  <a:pt x="1350" y="23987"/>
                </a:lnTo>
                <a:lnTo>
                  <a:pt x="20250" y="23987"/>
                </a:lnTo>
                <a:close/>
              </a:path>
              <a:path fill="lighten" w="21600" h="25337">
                <a:moveTo>
                  <a:pt x="0" y="25337"/>
                </a:moveTo>
                <a:lnTo>
                  <a:pt x="0" y="0"/>
                </a:lnTo>
                <a:lnTo>
                  <a:pt x="1350" y="1350"/>
                </a:lnTo>
                <a:lnTo>
                  <a:pt x="1350" y="23987"/>
                </a:lnTo>
                <a:close/>
              </a:path>
              <a:path fill="darken" w="21600" h="25337">
                <a:moveTo>
                  <a:pt x="3756" y="9151"/>
                </a:moveTo>
                <a:lnTo>
                  <a:pt x="4675" y="9151"/>
                </a:lnTo>
                <a:lnTo>
                  <a:pt x="5060" y="9518"/>
                </a:lnTo>
                <a:lnTo>
                  <a:pt x="14318" y="9518"/>
                </a:lnTo>
                <a:lnTo>
                  <a:pt x="14878" y="10078"/>
                </a:lnTo>
                <a:lnTo>
                  <a:pt x="14878" y="10630"/>
                </a:lnTo>
                <a:lnTo>
                  <a:pt x="16733" y="10630"/>
                </a:lnTo>
                <a:lnTo>
                  <a:pt x="17100" y="10078"/>
                </a:lnTo>
                <a:lnTo>
                  <a:pt x="17844" y="10078"/>
                </a:lnTo>
                <a:lnTo>
                  <a:pt x="17844" y="15258"/>
                </a:lnTo>
                <a:lnTo>
                  <a:pt x="17100" y="15258"/>
                </a:lnTo>
                <a:lnTo>
                  <a:pt x="16733" y="14707"/>
                </a:lnTo>
                <a:lnTo>
                  <a:pt x="14878" y="14707"/>
                </a:lnTo>
                <a:lnTo>
                  <a:pt x="14878" y="15993"/>
                </a:lnTo>
                <a:lnTo>
                  <a:pt x="5244" y="15993"/>
                </a:lnTo>
                <a:lnTo>
                  <a:pt x="5244" y="11741"/>
                </a:lnTo>
                <a:lnTo>
                  <a:pt x="5060" y="11741"/>
                </a:lnTo>
                <a:lnTo>
                  <a:pt x="4675" y="12108"/>
                </a:lnTo>
                <a:lnTo>
                  <a:pt x="3756" y="1210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1335-9DA1-435C-85F2-8490DDC27A9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QQ截图20131124152416"/>
          <p:cNvPicPr/>
          <p:nvPr/>
        </p:nvPicPr>
        <p:blipFill>
          <a:blip r:embed="rId1"/>
          <a:stretch/>
        </p:blipFill>
        <p:spPr>
          <a:xfrm>
            <a:off x="457200" y="276120"/>
            <a:ext cx="822960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8E92-E717-41FA-B34A-E48CB6EFA11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改进的希尔函数来模拟基因的表达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由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HL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的扩散速度很快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HL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的浓度是均一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基因的表达量是随着与菌落边缘距离的增加而减少，中心的基因表达量最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QQ截图20131124154211"/>
          <p:cNvPicPr/>
          <p:nvPr/>
        </p:nvPicPr>
        <p:blipFill>
          <a:blip r:embed="rId1"/>
          <a:stretch/>
        </p:blipFill>
        <p:spPr>
          <a:xfrm>
            <a:off x="263520" y="3419640"/>
            <a:ext cx="8880480" cy="2936880"/>
          </a:xfrm>
          <a:prstGeom prst="rect">
            <a:avLst/>
          </a:prstGeom>
          <a:ln w="0">
            <a:noFill/>
          </a:ln>
        </p:spPr>
      </p:pic>
      <p:sp>
        <p:nvSpPr>
          <p:cNvPr id="84" name="流程图: 文档 3"/>
          <p:cNvSpPr/>
          <p:nvPr/>
        </p:nvSpPr>
        <p:spPr>
          <a:xfrm>
            <a:off x="0" y="0"/>
            <a:ext cx="9144000" cy="1500120"/>
          </a:xfrm>
          <a:prstGeom prst="flowChartDocumen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模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18:30:00Z</dcterms:created>
  <dc:creator>Sky123.Org</dc:creator>
  <dc:description/>
  <dc:language>en-US</dc:language>
  <cp:lastModifiedBy>ASUS</cp:lastModifiedBy>
  <dcterms:modified xsi:type="dcterms:W3CDTF">2013-11-27T05:42:14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