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58560" y="301860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992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024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192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5856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024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4192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A5E-D4AF-4B3E-9469-5ED9DC59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DD9-406B-4425-B9A9-7BD3E0F5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028A-0079-41A9-AA5E-192E85C9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7A6-B2B5-4CDB-B88C-341E35BF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BB3-128C-4649-9B96-1D84CE88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58920" y="188640"/>
            <a:ext cx="64087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33C-7FE0-4937-9B7B-C75ECC54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D7F-20C4-4CA1-9E8F-4A25E16B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992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778-2129-4647-9027-3589E517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A10-1A32-453C-B79C-829767B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58560" y="301860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56D-0889-427C-A946-6F023E3B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992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E49-4FC1-4D45-AD99-7C61CE5C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024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4192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5856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024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4192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7A7-4341-4B47-94C5-3B3AFB45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920" y="188640"/>
            <a:ext cx="64087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992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58560" y="301860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992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024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41920" y="83664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5856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024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41920" y="3018600"/>
            <a:ext cx="20869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58920" y="188640"/>
            <a:ext cx="64087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9920" y="301860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9920" y="836640"/>
            <a:ext cx="316296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58560" y="3018600"/>
            <a:ext cx="64818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7D53-29A2-4B32-A692-75A182A450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1258920" y="18900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25892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134320" y="1917720"/>
            <a:ext cx="297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细胞蛋白互作的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荧光报告系统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刘芳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02920" y="1268280"/>
            <a:ext cx="705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R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效率依赖于供体和受体间距离六次幂的倒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称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orster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半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r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为供体与受体之间的距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D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分别是有受体和无受体时供体的荧光强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[ A ]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  <a:ea typeface="宋体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示当供体溶液的荧光有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50 %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被猝灭时受体的浓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3528720" cy="38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835280" y="2637000"/>
            <a:ext cx="3528720" cy="365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835280" y="3068640"/>
            <a:ext cx="3528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RET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优点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ro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32000" y="1700280"/>
            <a:ext cx="662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实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高灵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受环境干扰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原位测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适用于复杂体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可以动态检测活细胞内的蛋白质相互作用等优点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如细胞信号传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70520" y="57340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ons in the nucleu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360" y="765000"/>
            <a:ext cx="640872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RET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缺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(C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68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光漂白作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自发荧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受体荧光基团的自我激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FR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要求较高的转染效率，而且供体和受体之间距离和方向不合适的话会造成假阴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7640" y="1268280"/>
            <a:ext cx="698508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F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两个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片层之间的环结构上有许多特异位点可以插入外源蛋白而不影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GF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荧光活性，利用这一特征，将荧光蛋白分割成两个不具有荧光活性的分子片段，在分别与目标蛋白连接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1908000" y="2637000"/>
            <a:ext cx="6829560" cy="3886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838880" y="260280"/>
            <a:ext cx="716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imolecular fluorescence complementation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BIFC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835280" y="2852640"/>
            <a:ext cx="7308720" cy="378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1800360" y="189000"/>
            <a:ext cx="734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iFC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缺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(C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662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rresistible BiFC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ndependent fluorescent protein fragment assoc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ltering protein structure and steric hind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bligate anae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Use of fusion prot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xact interaction relationship un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90756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iFC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优点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ro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Relevant biological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rect 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ensi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patial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No specialized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No structural information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ultipl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476360" y="3789360"/>
            <a:ext cx="4896000" cy="1778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2000" y="90756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iF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的扩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8920" y="1773360"/>
            <a:ext cx="7129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ulticolor BIF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多色双分子荧光互补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riFC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分子荧光互补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iFC-FRE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403280" y="3789360"/>
            <a:ext cx="5038920" cy="1790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258920" y="3500280"/>
            <a:ext cx="5486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40872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参考文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olecular and cellular approaches for the detection of protein–protein interactions: latest techniques and current limitation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he Plant Journal(2008)53, 610–63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 fluorescent reporter for mapping cellular protein-protein interactions in time and spac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olecular Systems Biology 9; Article number 647; doi:10.1038/msb.2013.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2920" y="155736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应用双分子荧光互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(BiFC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方法分析烟草中介体亚基之间的互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蛋白质与蛋白质相互作用研究技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荧光共振能量转移技术在生命科学中的应用及研究进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蛋白质的分子和细胞检测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8000" y="475920"/>
            <a:ext cx="70567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Verdana"/>
                <a:ea typeface="Gulim"/>
              </a:rPr>
              <a:t>protein–protein intera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700360" y="1989000"/>
            <a:ext cx="540072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920" y="15192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560" y="836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24360" y="2133720"/>
            <a:ext cx="2160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403280" y="476280"/>
            <a:ext cx="662472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protein–protein interactions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332000" y="1052640"/>
            <a:ext cx="70578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Macromolecular interactions such as protein–protein interactions (PPI) are fundamental for all biological processes, ranging from the formation of cellular structures and enzymatic complexes to the regulation of signaling pathway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Knowledge of the protein interaction network is a crucial pre-requisite for understanding most cellular function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a comprehensive map of both low- and high-affinity PPI among soluble and membrane proteins in the cell would be an invaluable asset for the understanding of biological processes and molecular mechanisms at the systems biology level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058160" cy="83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s for analyzing protein–protein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280" y="1450800"/>
            <a:ext cx="8388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M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st two-hyb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ge display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Plasma resonance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ody and protein arrays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oprecip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l-down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luorescence resonance energy transfer (FR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imolecular fluorescence complementation (BIF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3280" y="404640"/>
            <a:ext cx="698508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a900"/>
                </a:solidFill>
                <a:latin typeface="Arial"/>
              </a:rPr>
              <a:t>来源于水母的野生型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GFP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个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片层组成桶状构成疏水中心，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另外</a:t>
            </a:r>
            <a:r>
              <a:rPr b="0" lang="zh-CN" sz="1800" spc="-1" strike="noStrike">
                <a:solidFill>
                  <a:srgbClr val="33a900"/>
                </a:solidFill>
                <a:latin typeface="Arial"/>
              </a:rPr>
              <a:t>还有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螺旋</a:t>
            </a:r>
            <a:r>
              <a:rPr b="0" lang="zh-CN" sz="1800" spc="-1" strike="noStrike">
                <a:solidFill>
                  <a:srgbClr val="33a900"/>
                </a:solidFill>
                <a:latin typeface="Arial"/>
              </a:rPr>
              <a:t>，包含着的发光基团位于其中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。这个发光基团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(chromophore)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是由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个氨基酸（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Ser65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Tyr66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Gly67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）经过环化、氧化后形成的咪唑环，在钙离子激发下产生绿色荧光野生型</a:t>
            </a:r>
            <a:r>
              <a:rPr b="0" lang="en-US" sz="1800" spc="-1" strike="noStrike">
                <a:solidFill>
                  <a:srgbClr val="33a900"/>
                </a:solidFill>
                <a:latin typeface="Arial"/>
              </a:rPr>
              <a:t>GFP</a:t>
            </a:r>
            <a:r>
              <a:rPr b="0" lang="ru-RU" sz="1800" spc="-1" strike="noStrike">
                <a:solidFill>
                  <a:srgbClr val="33a900"/>
                </a:solidFill>
                <a:latin typeface="Arial"/>
              </a:rPr>
              <a:t>吸收紫外光和蓝光，发射绿光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417920" y="3246480"/>
            <a:ext cx="274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835280" y="2421000"/>
            <a:ext cx="7129440" cy="3213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250920" y="1852560"/>
            <a:ext cx="41050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luorescence resonance energy transfer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FR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979640" y="3141720"/>
            <a:ext cx="6767640" cy="2955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0920" y="1268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荧光共振能量转移是指两个荧光发色基团在足够靠近时，当供体分子吸收一定频率的光子后被激发到更高的电子能态，在该电子回到基态前，通过偶极子相互作用，实现了能量向邻近的受体分子转移（即发生能量共振转移）。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2920" y="764640"/>
            <a:ext cx="655164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为共振能量转移供、受体对，荧光物质必须满足以下条件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供，受体的激光要分得足够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供体的发射光谱与受体的激发光谱要重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它们的激发光谱要足够分离，供体发射光谱与受体激发光谱部分重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(&gt;30%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以获得足够的能量传递；供体受体发射光谱的合理分隔，以便独立测量每个荧光基团的荧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cdbf6c81800a19d8abbd210d33fa828ba71ea8d3fd1f6647"/>
          <p:cNvPicPr/>
          <p:nvPr/>
        </p:nvPicPr>
        <p:blipFill>
          <a:blip r:embed="rId2"/>
          <a:stretch/>
        </p:blipFill>
        <p:spPr>
          <a:xfrm>
            <a:off x="1763640" y="1052640"/>
            <a:ext cx="7380360" cy="5121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15080" y="404640"/>
            <a:ext cx="42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青色荧光蛋白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F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黄色荧光蛋白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4417920" y="3246480"/>
            <a:ext cx="20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5832360" cy="5635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2124000" y="5589720"/>
            <a:ext cx="6840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量转移的效率和供体的发射光谱与受体的吸收光谱的重叠程度、供体与受体的跃迁偶极的相对取向、供体与受体之间的距离等因素有关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2:16:09Z</dcterms:created>
  <dc:creator>微软用户</dc:creator>
  <dc:description/>
  <cp:keywords/>
  <dc:language>en-US</dc:language>
  <cp:lastModifiedBy>刘芳</cp:lastModifiedBy>
  <dcterms:modified xsi:type="dcterms:W3CDTF">2013-10-30T04:50:30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