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D5A-3745-421D-A2D3-D679E31F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FBD-4665-4589-B6C3-9811605B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5EB-F78A-4193-8CE5-3D4519AD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A50-EABD-4CC0-B051-E077137F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8D9-419A-47D5-AFC2-18276851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245-827A-470C-8CFF-95FA8793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5C40-B1DC-4379-97A2-59CD5741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D8B-1B95-4C5D-98B5-0F0CA6C2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7B2-1FCC-4D3D-B148-84398758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5A1-B0E7-4C13-A9BB-D92424CA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3BA-B434-4A49-96FC-BA52E2F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320-D618-40B7-B915-9CE70C2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BE3B-1239-4786-9FAF-23D2F57ECEF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6D38-4CAA-49A6-A1BE-CD6DDE5CB9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流程图: 文档 4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时间控制的自组织模式形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0"/>
          <p:cNvSpPr/>
          <p:nvPr/>
        </p:nvSpPr>
        <p:spPr>
          <a:xfrm>
            <a:off x="1428840" y="1928880"/>
            <a:ext cx="3429000" cy="8571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"/>
          <p:cNvSpPr/>
          <p:nvPr/>
        </p:nvSpPr>
        <p:spPr>
          <a:xfrm>
            <a:off x="1428840" y="2857680"/>
            <a:ext cx="3429000" cy="85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新的机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8"/>
          <p:cNvSpPr/>
          <p:nvPr/>
        </p:nvSpPr>
        <p:spPr>
          <a:xfrm>
            <a:off x="1428840" y="3786120"/>
            <a:ext cx="3429000" cy="85716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实验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9"/>
          <p:cNvSpPr/>
          <p:nvPr/>
        </p:nvSpPr>
        <p:spPr>
          <a:xfrm>
            <a:off x="1428840" y="4714920"/>
            <a:ext cx="3429000" cy="8571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0"/>
          <p:cNvSpPr/>
          <p:nvPr/>
        </p:nvSpPr>
        <p:spPr>
          <a:xfrm>
            <a:off x="1428840" y="5643720"/>
            <a:ext cx="342900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8"/>
          <p:cNvSpPr/>
          <p:nvPr/>
        </p:nvSpPr>
        <p:spPr>
          <a:xfrm>
            <a:off x="5643720" y="1928880"/>
            <a:ext cx="2919240" cy="1357200"/>
          </a:xfrm>
          <a:prstGeom prst="roundRect">
            <a:avLst>
              <a:gd name="adj" fmla="val 16667"/>
            </a:avLst>
          </a:prstGeom>
          <a:noFill/>
          <a:ln w="60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报告人：洪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46 -3.33333E-006 L 5.55112E-017 -3.33333E-006 E">
                                      <p:cBhvr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11146 3.33333E-006 E">
                                      <p:cBhvr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0209 L 0.19566 0.00209 E">
                                      <p:cBhvr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 L 0.25868 0 E">
                                      <p:cBhvr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A635-4346-4CCD-A08F-B18B4A7AF3F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QQ截图20131124154413"/>
          <p:cNvPicPr/>
          <p:nvPr/>
        </p:nvPicPr>
        <p:blipFill>
          <a:blip r:embed="rId1"/>
          <a:stretch/>
        </p:blipFill>
        <p:spPr>
          <a:xfrm>
            <a:off x="1276200" y="1417680"/>
            <a:ext cx="6591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0BBC-84BC-4D7D-B59C-FED8B82FC31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决定环大小的因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积累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HL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的时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增加外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改变加样液滴的大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QQ截图20131124195541"/>
          <p:cNvPicPr/>
          <p:nvPr/>
        </p:nvPicPr>
        <p:blipFill>
          <a:blip r:embed="rId1"/>
          <a:stretch/>
        </p:blipFill>
        <p:spPr>
          <a:xfrm>
            <a:off x="457200" y="2836800"/>
            <a:ext cx="77709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D4B9-B2CF-4C05-B8E3-DA38A91BA02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QQ截图20131124200004"/>
          <p:cNvPicPr/>
          <p:nvPr/>
        </p:nvPicPr>
        <p:blipFill>
          <a:blip r:embed="rId1"/>
          <a:stretch/>
        </p:blipFill>
        <p:spPr>
          <a:xfrm>
            <a:off x="687240" y="274680"/>
            <a:ext cx="7417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841320" y="2627280"/>
            <a:ext cx="8070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将实验和模型巧妙的结合在一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路很清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41320" y="2627280"/>
            <a:ext cx="807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c0504d"/>
                </a:solidFill>
                <a:latin typeface="Arial"/>
              </a:rPr>
              <a:t>Thank you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temonitis_sp._14310"/>
          <p:cNvPicPr/>
          <p:nvPr/>
        </p:nvPicPr>
        <p:blipFill>
          <a:blip r:embed="rId1"/>
          <a:stretch/>
        </p:blipFill>
        <p:spPr>
          <a:xfrm>
            <a:off x="71280" y="3430440"/>
            <a:ext cx="2592720" cy="324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486388759756412897"/>
          <p:cNvPicPr/>
          <p:nvPr/>
        </p:nvPicPr>
        <p:blipFill>
          <a:blip r:embed="rId2"/>
          <a:stretch/>
        </p:blipFill>
        <p:spPr>
          <a:xfrm>
            <a:off x="2744640" y="3429000"/>
            <a:ext cx="3451320" cy="32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ndex"/>
          <p:cNvPicPr/>
          <p:nvPr/>
        </p:nvPicPr>
        <p:blipFill>
          <a:blip r:embed="rId3"/>
          <a:stretch/>
        </p:blipFill>
        <p:spPr>
          <a:xfrm>
            <a:off x="6400800" y="3429000"/>
            <a:ext cx="259092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92040" y="1901880"/>
            <a:ext cx="767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组织模式：生物系统内的有序结构或这种有序结构的形成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机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Administrator\Desktop\背景图片\海浪\1.png"/>
          <p:cNvPicPr/>
          <p:nvPr/>
        </p:nvPicPr>
        <p:blipFill>
          <a:blip r:embed="rId1"/>
          <a:srcRect l="0" t="0" r="0" b="17053"/>
          <a:stretch/>
        </p:blipFill>
        <p:spPr>
          <a:xfrm>
            <a:off x="0" y="5815080"/>
            <a:ext cx="9144000" cy="1042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231840" y="1690560"/>
            <a:ext cx="55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灵机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生物体内的某种被称为“形态子” 的生物大分子与其它物质发生生物化学反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时在其体内随机扩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31840" y="3773520"/>
            <a:ext cx="52801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法国国旗的模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rech flag mode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：胚胎细胞接受并对遗传信息做出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9"/>
          <p:cNvSpPr/>
          <p:nvPr/>
        </p:nvSpPr>
        <p:spPr>
          <a:xfrm>
            <a:off x="2639880" y="1690560"/>
            <a:ext cx="5214960" cy="328608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宋体"/>
              </a:rPr>
              <a:t>依赖于形态因子的浓度梯度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圆角矩形 10"/>
          <p:cNvSpPr/>
          <p:nvPr/>
        </p:nvSpPr>
        <p:spPr>
          <a:xfrm>
            <a:off x="282600" y="1500120"/>
            <a:ext cx="7764480" cy="17510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自组织模式的形成不需要形态因子的浓度梯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一种新的机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Administrator\Desktop\背景图片\海浪\1.png"/>
          <p:cNvPicPr/>
          <p:nvPr/>
        </p:nvPicPr>
        <p:blipFill>
          <a:blip r:embed="rId1"/>
          <a:srcRect l="0" t="0" r="0" b="17053"/>
          <a:stretch/>
        </p:blipFill>
        <p:spPr>
          <a:xfrm>
            <a:off x="0" y="5815080"/>
            <a:ext cx="91440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CFD7[[Y(JAU)}ARV}C[A(F"/>
          <p:cNvPicPr/>
          <p:nvPr/>
        </p:nvPicPr>
        <p:blipFill>
          <a:blip r:embed="rId1"/>
          <a:stretch/>
        </p:blipFill>
        <p:spPr>
          <a:xfrm>
            <a:off x="660240" y="1641600"/>
            <a:ext cx="3346560" cy="5079960"/>
          </a:xfrm>
          <a:prstGeom prst="rect">
            <a:avLst/>
          </a:prstGeom>
          <a:ln w="0">
            <a:noFill/>
          </a:ln>
        </p:spPr>
      </p:pic>
      <p:sp>
        <p:nvSpPr>
          <p:cNvPr id="6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D507-4C8B-4DE7-A56F-CA04C5F003D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6880" y="49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48040" y="1984320"/>
            <a:ext cx="403416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T7 RN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a mutant T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RNA 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lymeras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流程图: 文档 3"/>
          <p:cNvSpPr/>
          <p:nvPr/>
        </p:nvSpPr>
        <p:spPr>
          <a:xfrm>
            <a:off x="-46080" y="0"/>
            <a:ext cx="9140760" cy="150192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实验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A94B-450E-47A8-9A78-1FE4114BB1E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负向反馈回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04160" y="1418760"/>
            <a:ext cx="230184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Lys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T7 lysozy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Lux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Lux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T7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T7 RNAP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a mutant T7 RNA 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lymerase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63520" y="619200"/>
            <a:ext cx="6740640" cy="603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359160" y="39600"/>
            <a:ext cx="36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负反馈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C928-8930-4534-AFEE-EB85A12AE34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7145280" cy="4481640"/>
          </a:xfrm>
          <a:prstGeom prst="rect">
            <a:avLst/>
          </a:prstGeom>
          <a:ln w="0">
            <a:noFill/>
          </a:ln>
        </p:spPr>
      </p:pic>
      <p:sp>
        <p:nvSpPr>
          <p:cNvPr id="74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结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900400"/>
            <a:ext cx="7934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FP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环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Cherry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环早形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环的形成和菌落的扩张是精密结合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7823160" y="5546880"/>
            <a:ext cx="530280" cy="622080"/>
          </a:xfrm>
          <a:custGeom>
            <a:avLst/>
            <a:gdLst>
              <a:gd name="textAreaLeft" fmla="*/ 33120 w 530280"/>
              <a:gd name="textAreaRight" fmla="*/ 497160 w 530280"/>
              <a:gd name="textAreaTop" fmla="*/ 33120 h 622080"/>
              <a:gd name="textAreaBottom" fmla="*/ 588960 h 622080"/>
            </a:gdLst>
            <a:ahLst/>
            <a:rect l="textAreaLeft" t="textAreaTop" r="textAreaRight" b="textAreaBottom"/>
            <a:pathLst>
              <a:path w="21600" h="25337">
                <a:moveTo>
                  <a:pt x="0" y="0"/>
                </a:moveTo>
                <a:lnTo>
                  <a:pt x="21600" y="0"/>
                </a:lnTo>
                <a:lnTo>
                  <a:pt x="21600" y="25337"/>
                </a:lnTo>
                <a:lnTo>
                  <a:pt x="0" y="25337"/>
                </a:lnTo>
                <a:close/>
              </a:path>
              <a:path fill="lightenLess" w="21600" h="2533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337">
                <a:moveTo>
                  <a:pt x="21600" y="0"/>
                </a:moveTo>
                <a:lnTo>
                  <a:pt x="21600" y="25337"/>
                </a:lnTo>
                <a:lnTo>
                  <a:pt x="20250" y="23987"/>
                </a:lnTo>
                <a:lnTo>
                  <a:pt x="20250" y="1350"/>
                </a:lnTo>
                <a:close/>
              </a:path>
              <a:path fill="darkenLess" w="21600" h="25337">
                <a:moveTo>
                  <a:pt x="21600" y="25337"/>
                </a:moveTo>
                <a:lnTo>
                  <a:pt x="0" y="25337"/>
                </a:lnTo>
                <a:lnTo>
                  <a:pt x="1350" y="23987"/>
                </a:lnTo>
                <a:lnTo>
                  <a:pt x="20250" y="23987"/>
                </a:lnTo>
                <a:close/>
              </a:path>
              <a:path fill="lighten" w="21600" h="25337">
                <a:moveTo>
                  <a:pt x="0" y="25337"/>
                </a:moveTo>
                <a:lnTo>
                  <a:pt x="0" y="0"/>
                </a:lnTo>
                <a:lnTo>
                  <a:pt x="1350" y="1350"/>
                </a:lnTo>
                <a:lnTo>
                  <a:pt x="1350" y="23987"/>
                </a:lnTo>
                <a:close/>
              </a:path>
              <a:path fill="darken" w="21600" h="25337">
                <a:moveTo>
                  <a:pt x="3756" y="9151"/>
                </a:moveTo>
                <a:lnTo>
                  <a:pt x="4675" y="9151"/>
                </a:lnTo>
                <a:lnTo>
                  <a:pt x="5060" y="9518"/>
                </a:lnTo>
                <a:lnTo>
                  <a:pt x="14318" y="9518"/>
                </a:lnTo>
                <a:lnTo>
                  <a:pt x="14878" y="10078"/>
                </a:lnTo>
                <a:lnTo>
                  <a:pt x="14878" y="10630"/>
                </a:lnTo>
                <a:lnTo>
                  <a:pt x="16733" y="10630"/>
                </a:lnTo>
                <a:lnTo>
                  <a:pt x="17100" y="10078"/>
                </a:lnTo>
                <a:lnTo>
                  <a:pt x="17844" y="10078"/>
                </a:lnTo>
                <a:lnTo>
                  <a:pt x="17844" y="15258"/>
                </a:lnTo>
                <a:lnTo>
                  <a:pt x="17100" y="15258"/>
                </a:lnTo>
                <a:lnTo>
                  <a:pt x="16733" y="14707"/>
                </a:lnTo>
                <a:lnTo>
                  <a:pt x="14878" y="14707"/>
                </a:lnTo>
                <a:lnTo>
                  <a:pt x="14878" y="15993"/>
                </a:lnTo>
                <a:lnTo>
                  <a:pt x="5244" y="15993"/>
                </a:lnTo>
                <a:lnTo>
                  <a:pt x="5244" y="11741"/>
                </a:lnTo>
                <a:lnTo>
                  <a:pt x="5060" y="11741"/>
                </a:lnTo>
                <a:lnTo>
                  <a:pt x="4675" y="12108"/>
                </a:lnTo>
                <a:lnTo>
                  <a:pt x="3756" y="121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87D-0E5F-4FA7-9514-91A9D214B2F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QQ截图20131124152416"/>
          <p:cNvPicPr/>
          <p:nvPr/>
        </p:nvPicPr>
        <p:blipFill>
          <a:blip r:embed="rId1"/>
          <a:stretch/>
        </p:blipFill>
        <p:spPr>
          <a:xfrm>
            <a:off x="457200" y="276120"/>
            <a:ext cx="822960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74BA-9583-412B-8F5A-D378C6C623B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改进的希尔函数来模拟基因的表达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由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H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的扩散速度很快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HL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的浓度是均一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基因的表达量是随着与菌落边缘距离的增加而减少，中心的基因表达量最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QQ截图20131124154211"/>
          <p:cNvPicPr/>
          <p:nvPr/>
        </p:nvPicPr>
        <p:blipFill>
          <a:blip r:embed="rId1"/>
          <a:stretch/>
        </p:blipFill>
        <p:spPr>
          <a:xfrm>
            <a:off x="263520" y="3419640"/>
            <a:ext cx="8880480" cy="2936880"/>
          </a:xfrm>
          <a:prstGeom prst="rect">
            <a:avLst/>
          </a:prstGeom>
          <a:ln w="0">
            <a:noFill/>
          </a:ln>
        </p:spPr>
      </p:pic>
      <p:sp>
        <p:nvSpPr>
          <p:cNvPr id="84" name="流程图: 文档 3"/>
          <p:cNvSpPr/>
          <p:nvPr/>
        </p:nvSpPr>
        <p:spPr>
          <a:xfrm>
            <a:off x="0" y="0"/>
            <a:ext cx="9144000" cy="1500120"/>
          </a:xfrm>
          <a:prstGeom prst="flowChartDocumen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模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8:30:00Z</dcterms:created>
  <dc:creator>Sky123.Org</dc:creator>
  <dc:description/>
  <dc:language>en-US</dc:language>
  <cp:lastModifiedBy>ASUS</cp:lastModifiedBy>
  <dcterms:modified xsi:type="dcterms:W3CDTF">2013-11-27T05:42:14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