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024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192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5856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024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192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D76-C9D4-46AA-BD5F-EC4E9EA2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4D4-B60D-44B7-AB96-B58FD933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8CF-B85D-4DCD-9DBB-62B79A0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451-6459-4C35-9621-F384913F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4A7-1978-4D17-838A-A729E00F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58920" y="188640"/>
            <a:ext cx="6408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7F6-7CCB-44D9-BB32-511F68B5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45E-E310-45A4-9B02-4C69AD3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0CD-3A3B-45EE-B34A-5BD96BB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3D2-C68D-444D-9B05-1BD30EE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4F1-7809-4238-B8C3-536B10D2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748-87F9-4A40-9D0D-D628A2A4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024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92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5856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024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92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25D-3B5B-4022-B77A-157234AD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920" y="188640"/>
            <a:ext cx="6408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024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4192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5856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024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4192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8920" y="188640"/>
            <a:ext cx="6408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86C-80DA-4D70-A909-005DA6262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1258920" y="18900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25892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134320" y="1917720"/>
            <a:ext cx="297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细胞蛋白互作的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荧光报告系统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刘芳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02920" y="1268280"/>
            <a:ext cx="705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效率依赖于供体和受体间距离六次幂的倒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称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orster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半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为供体与受体之间的距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D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分别是有受体和无受体时供体的荧光强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[ A 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示当供体溶液的荧光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50 %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被猝灭时受体的浓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352872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352872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835280" y="3068640"/>
            <a:ext cx="3528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优点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6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实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高灵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受环境干扰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原位测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适用于复杂体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可以动态检测活细胞内的蛋白质相互作用等优点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如细胞信号传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70520" y="57340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s in the nucleu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640872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缺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C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8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光漂白作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自发荧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受体荧光基团的自我激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要求较高的转染效率，而且供体和受体之间距离和方向不合适的话会造成假阴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7640" y="1268280"/>
            <a:ext cx="69850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F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两个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片层之间的环结构上有许多特异位点可以插入外源蛋白而不影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F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荧光活性，利用这一特征，将荧光蛋白分割成两个不具有荧光活性的分子片段，在分别与目标蛋白连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6829560" cy="3886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38880" y="260280"/>
            <a:ext cx="71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molecular fluorescence complementation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BIFC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7308720" cy="378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1800360" y="189000"/>
            <a:ext cx="734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缺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C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66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rresistible BiFC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dependent fluorescent protein fragment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ltering protein structure and steric hind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Use of fusion prot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act interaction relationship un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优点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elevant biological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rect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patial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No specialized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No structural information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4896000" cy="1778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扩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ulticolor BIF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多色双分子荧光互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riF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分子荧光互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-FRE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403280" y="3789360"/>
            <a:ext cx="5038920" cy="1790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5486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参考文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lecular and cellular approaches for the detection of protein–protein interactions: latest techniques and current limitation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Plant Journal(2008)53, 610–63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 fluorescent reporter for mapping cellular protein-protein interactions in time and spa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lecular Systems Biology 9; Article number 647; doi:10.1038/msb.2013.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155736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应用双分子荧光互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BiFC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方法分析烟草中介体亚基之间的互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蛋白质与蛋白质相互作用研究技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荧光共振能量转移技术在生命科学中的应用及研究进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蛋白质的分子和细胞检测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Verdana"/>
                <a:ea typeface="Gulim"/>
              </a:rPr>
              <a:t>protein–protein inter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540072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24360" y="2133720"/>
            <a:ext cx="2160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403280" y="476280"/>
            <a:ext cx="66247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otein–protein interactions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332000" y="1052640"/>
            <a:ext cx="7057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Macromolecular interactions such as protein–protein interactions (PPI) are fundamental for all biological processes, ranging from the formation of cellular structures and enzymatic complexes to the regulation of signaling pathway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Knowledge of the protein interaction network is a crucial pre-requisite for understanding most cellular function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a comprehensive map of both low- and high-affinity PPI among soluble and membrane proteins in the cell would be an invaluable asset for the understanding of biological processes and molecular mechanisms at the systems biology level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05816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s for analyzing protein–protein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450800"/>
            <a:ext cx="838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st two-hyb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ge display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Plasma resonance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ody and protein arrays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l-dow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luorescence resonance energy transfer (FR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molecular fluorescence complementation (BIF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698508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a900"/>
                </a:solidFill>
                <a:latin typeface="Arial"/>
              </a:rPr>
              <a:t>来源于水母的野生型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GFP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片层组成桶状构成疏水中心，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另外</a:t>
            </a:r>
            <a:r>
              <a:rPr b="0" lang="zh-CN" sz="1800" spc="-1" strike="noStrike">
                <a:solidFill>
                  <a:srgbClr val="33a900"/>
                </a:solidFill>
                <a:latin typeface="Arial"/>
              </a:rPr>
              <a:t>还有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螺旋</a:t>
            </a:r>
            <a:r>
              <a:rPr b="0" lang="zh-CN" sz="1800" spc="-1" strike="noStrike">
                <a:solidFill>
                  <a:srgbClr val="33a900"/>
                </a:solidFill>
                <a:latin typeface="Arial"/>
              </a:rPr>
              <a:t>，包含着的发光基团位于其中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。这个发光基团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(chromophore)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是由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个氨基酸（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Ser65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Tyr66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Gly67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）经过环化、氧化后形成的咪唑环，在钙离子激发下产生绿色荧光野生型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GFP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吸收紫外光和蓝光，发射绿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417920" y="3246480"/>
            <a:ext cx="274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7129440" cy="321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250920" y="1852560"/>
            <a:ext cx="4105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luorescence resonance energy transfe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FR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6767640" cy="29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1268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荧光共振能量转移是指两个荧光发色基团在足够靠近时，当供体分子吸收一定频率的光子后被激发到更高的电子能态，在该电子回到基态前，通过偶极子相互作用，实现了能量向邻近的受体分子转移（即发生能量共振转移）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55164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为共振能量转移供、受体对，荧光物质必须满足以下条件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供，受体的激光要分得足够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供体的发射光谱与受体的激发光谱要重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它们的激发光谱要足够分离，供体发射光谱与受体激发光谱部分重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&gt;30%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以获得足够的能量传递；供体受体发射光谱的合理分隔，以便独立测量每个荧光基团的荧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dbf6c81800a19d8abbd210d33fa828ba71ea8d3fd1f6647"/>
          <p:cNvPicPr/>
          <p:nvPr/>
        </p:nvPicPr>
        <p:blipFill>
          <a:blip r:embed="rId2"/>
          <a:stretch/>
        </p:blipFill>
        <p:spPr>
          <a:xfrm>
            <a:off x="1763640" y="1052640"/>
            <a:ext cx="7380360" cy="5121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15080" y="40464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色荧光蛋白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F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黄色荧光蛋白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5832360" cy="563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124000" y="5589720"/>
            <a:ext cx="6840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量转移的效率和供体的发射光谱与受体的吸收光谱的重叠程度、供体与受体的跃迁偶极的相对取向、供体与受体之间的距离等因素有关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2:16:09Z</dcterms:created>
  <dc:creator>微软用户</dc:creator>
  <dc:description/>
  <cp:keywords/>
  <dc:language>en-US</dc:language>
  <cp:lastModifiedBy>刘芳</cp:lastModifiedBy>
  <dcterms:modified xsi:type="dcterms:W3CDTF">2013-10-30T04:50:3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